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1EC-524A-4ED8-87FB-A4310FA6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632-D675-4D34-8836-010634CD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141-84F6-4B77-A77C-5BB469EF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3D7-19A1-48B3-A91B-0F1E4BBA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AF6-4516-4B11-9FFF-CA6F879F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FF4-4D28-4A0D-8871-2A286B4C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D1B-B09C-4CC8-A052-AD5BC8E4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D94-AAA4-43DE-B280-572A0D77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A80-56E9-48B9-BE35-42DB5BB5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550-A826-439E-B89D-42DF6325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466-E564-4EA0-BC15-6CD71B40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058-0DC0-4ED8-B339-451636D2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F178-2201-4119-A456-9CF8A52EF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152800"/>
            <a:ext cx="8610480" cy="25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06:50:41Z</dcterms:created>
  <dc:creator>User</dc:creator>
  <dc:description/>
  <dc:language>en-US</dc:language>
  <cp:lastModifiedBy>User</cp:lastModifiedBy>
  <dcterms:modified xsi:type="dcterms:W3CDTF">2010-01-01T06:51:17Z</dcterms:modified>
  <cp:revision>1</cp:revision>
  <dc:subject/>
  <dc:title>Slide 1</dc:title>
</cp:coreProperties>
</file>